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5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D7ED-3B4E-4719-BCC1-F9549390C98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FF69-57F6-4623-81B6-83FA82EACF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B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gtzlogo-slogan-en-rgb"/>
          <p:cNvPicPr/>
          <p:nvPr/>
        </p:nvPicPr>
        <p:blipFill>
          <a:blip r:embed="rId2"/>
          <a:srcRect l="0" t="3847" r="0" b="0"/>
          <a:stretch/>
        </p:blipFill>
        <p:spPr>
          <a:xfrm>
            <a:off x="266760" y="0"/>
            <a:ext cx="1979640" cy="9525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F7DF-A06A-478D-B04D-6D82C0A6231E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AA533A66-30A9-43E8-9365-A93185E4762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8ACA-BF80-41BA-8798-4CA251D93198}" type="datetime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912080" y="659304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F499C69-0FBB-444D-B0FD-E562C0FB753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" name="Picture 23" descr=""/>
          <p:cNvPicPr/>
          <p:nvPr/>
        </p:nvPicPr>
        <p:blipFill>
          <a:blip r:embed="rId4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2080" y="658296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3" descr="gtzlogo-slogan-en-rgb"/>
          <p:cNvPicPr/>
          <p:nvPr/>
        </p:nvPicPr>
        <p:blipFill>
          <a:blip r:embed="rId2"/>
          <a:srcRect l="0" t="3847" r="0" b="0"/>
          <a:stretch/>
        </p:blipFill>
        <p:spPr>
          <a:xfrm>
            <a:off x="266760" y="0"/>
            <a:ext cx="1979640" cy="9525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81DA-25AC-44C1-B03B-ACBC2649087E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2F96548C-4760-4A82-A3D9-49B83F77CC5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1" name="Picture 20" descr=""/>
          <p:cNvPicPr/>
          <p:nvPr/>
        </p:nvPicPr>
        <p:blipFill>
          <a:blip r:embed="rId4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600" spc="-1" strike="noStrike">
                <a:solidFill>
                  <a:srgbClr val="000000"/>
                </a:solidFill>
                <a:latin typeface="Arial"/>
              </a:rPr>
              <a:t>Replacement of batteries of PV-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3276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000000"/>
                </a:solidFill>
                <a:latin typeface="Arial"/>
              </a:rPr>
              <a:t>GTZ 3</a:t>
            </a:r>
            <a:r>
              <a:rPr b="0" lang="en-BZ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BZ" sz="2400" spc="-1" strike="noStrike">
                <a:solidFill>
                  <a:srgbClr val="000000"/>
                </a:solidFill>
                <a:latin typeface="Arial"/>
              </a:rPr>
              <a:t> EAST AFRICA REGIONAL ENERGY MEETING,</a:t>
            </a:r>
            <a:br>
              <a:rPr sz="2400"/>
            </a:br>
            <a:r>
              <a:rPr b="0" lang="en-BZ" sz="2400" spc="-1" strike="noStrike">
                <a:solidFill>
                  <a:srgbClr val="000000"/>
                </a:solidFill>
                <a:latin typeface="Arial"/>
              </a:rPr>
              <a:t>Addis Ababa, Ethiopia, 27th – 30th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000000"/>
                </a:solidFill>
                <a:latin typeface="Arial"/>
              </a:rPr>
              <a:t>Andi Michel, Energising Development, G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E8E6-732E-4229-9696-24176C2B67BB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ergising Developmen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ergie und Transport (4413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utsche Gesellschaft fü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Zusammenarbeit (GTZ) GmbH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tfach 5180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5726 Esch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l.: + 49 6196 79 4109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x: + 49 6196 79 80 4109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-Mail: andreas.michel@gtz.d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et: http://www.gtz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039680" y="2693880"/>
            <a:ext cx="69613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ndreas Michel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D84F-D131-409D-AB5C-2678EE735113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ev Projects – with PV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39680" y="2106720"/>
          <a:ext cx="6961320" cy="4386240"/>
        </p:xfrm>
        <a:graphic>
          <a:graphicData uri="http://schemas.openxmlformats.org/drawingml/2006/table">
            <a:tbl>
              <a:tblPr/>
              <a:tblGrid>
                <a:gridCol w="2598840"/>
                <a:gridCol w="2181240"/>
                <a:gridCol w="2181240"/>
              </a:tblGrid>
              <a:tr h="796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V for HH  (SHS)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V for social inst.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egal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iopia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i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sambique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gladesh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D62F-1E5C-45AC-A61A-278E8749F4E3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V –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V -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ification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us of replacem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 forward / Knowledge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1908-59DF-4A1A-9ECE-AF2329F442CB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V-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1393920" y="2109960"/>
            <a:ext cx="6497640" cy="3849480"/>
            <a:chOff x="1393920" y="2109960"/>
            <a:chExt cx="6497640" cy="3849480"/>
          </a:xfrm>
        </p:grpSpPr>
        <p:pic>
          <p:nvPicPr>
            <p:cNvPr id="115" name="Picture 4" descr="inselanlage"/>
            <p:cNvPicPr/>
            <p:nvPr/>
          </p:nvPicPr>
          <p:blipFill>
            <a:blip r:embed="rId1"/>
            <a:stretch/>
          </p:blipFill>
          <p:spPr>
            <a:xfrm>
              <a:off x="1393920" y="2265480"/>
              <a:ext cx="6497640" cy="36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5"/>
            <p:cNvSpPr/>
            <p:nvPr/>
          </p:nvSpPr>
          <p:spPr>
            <a:xfrm>
              <a:off x="5959440" y="2290680"/>
              <a:ext cx="1641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1" lang="en-US" sz="16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3554280" y="2109960"/>
              <a:ext cx="16416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harge controller</a:t>
              </a:r>
              <a:endParaRPr b="1" lang="en-US" sz="16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531800" y="2246400"/>
              <a:ext cx="1641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V-cells</a:t>
              </a:r>
              <a:endParaRPr b="1" lang="en-US" sz="16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3362400" y="4925880"/>
              <a:ext cx="1641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1" lang="en-US" sz="1600" spc="-1" strike="noStrike">
                <a:solidFill>
                  <a:srgbClr val="999999"/>
                </a:solidFill>
                <a:latin typeface="Arial"/>
              </a:endParaRPr>
            </a:p>
          </p:txBody>
        </p:sp>
      </p:grpSp>
      <p:sp>
        <p:nvSpPr>
          <p:cNvPr id="120" name="Line 10"/>
          <p:cNvSpPr/>
          <p:nvPr/>
        </p:nvSpPr>
        <p:spPr>
          <a:xfrm flipH="1">
            <a:off x="3007800" y="5243400"/>
            <a:ext cx="693720" cy="662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016000" y="5861160"/>
            <a:ext cx="202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1000 cycles</a:t>
            </a:r>
            <a:br>
              <a:rPr sz="2200"/>
            </a:b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app. 3 year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1168560" y="2038320"/>
            <a:ext cx="3898800" cy="37782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3E24-AB22-4853-8C68-607C7ADEA58B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ateral- and reginoal development measures lead to an increased dissemination of PV-Systems ( &gt; 1.000.00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in environmental risk of PV systems are the lead batteries, especially the lead recyc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many countries no regulated recycling or disposal system for batterie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 lot of available PV Systems are of poor quality with a low lifespan (battery &lt; 300 cy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ad price is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le of the informel sector in recycling will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t: Advantages of PV Systems outweigh the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D518-23B8-4E3F-99B5-0AC2B159D375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V - Batt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tteries mainly consist of: lead metal (Pb), lead dioxide (Pb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 sulphuric acid, lead sulfate (PbS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 is toxic, harmful to the environment and causes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lphuric acid additional contains lead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appr. opening of batteries releases “lead-du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119C-2355-4CAF-B34D-13D9B1A25724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mmon recycling pract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tion between rural and ur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638600" y="2625840"/>
            <a:ext cx="4448160" cy="3919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44280" y="2624040"/>
            <a:ext cx="457704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F247-4CE9-470B-ACAD-BD001A020BA2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Battery recycling factories Bhubaneswar and Kolkata, Ind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batthous"/>
          <p:cNvPicPr/>
          <p:nvPr/>
        </p:nvPicPr>
        <p:blipFill>
          <a:blip r:embed="rId1"/>
          <a:stretch/>
        </p:blipFill>
        <p:spPr>
          <a:xfrm>
            <a:off x="539640" y="3141720"/>
            <a:ext cx="4249800" cy="318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Discarded battery casings in a secondary lead smelter in Picnic Gardens, Kolkata."/>
          <p:cNvPicPr/>
          <p:nvPr/>
        </p:nvPicPr>
        <p:blipFill>
          <a:blip r:embed="rId2"/>
          <a:stretch/>
        </p:blipFill>
        <p:spPr>
          <a:xfrm>
            <a:off x="4643280" y="2722680"/>
            <a:ext cx="3851280" cy="2889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5428440" y="5796000"/>
            <a:ext cx="2992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Blacksmith Institute 2008</a:t>
            </a:r>
            <a:endParaRPr b="1" lang="en-US" sz="14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K International 2008</a:t>
            </a:r>
            <a:endParaRPr b="1" lang="en-US" sz="14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umsplatzhalter 4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F753-F96C-444E-A469-D3656DF7828D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ification projects / status of replacem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40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EnDev 9 projects with PV - electrification component using bat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ttery recycling system partially analy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nduras: replacement system for batteries through regular “battery replacement fe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xperienc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E7D1-5DCA-4CDC-B22B-F732DA14C3E9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user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e current recycling prac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ar and car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pv-systems with high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improved recycling / replacem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within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endev.info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cycling of PV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8:43:32Z</dcterms:created>
  <dc:creator>Andreas Michel</dc:creator>
  <dc:description/>
  <cp:keywords>gtz-masterfile</cp:keywords>
  <dc:language>en-US</dc:language>
  <cp:lastModifiedBy>Marie-Luise Albrecht</cp:lastModifiedBy>
  <cp:lastPrinted>2005-12-21T12:33:01Z</cp:lastPrinted>
  <dcterms:modified xsi:type="dcterms:W3CDTF">2009-08-12T08:45:28Z</dcterms:modified>
  <cp:revision>13</cp:revision>
  <dc:subject/>
  <dc:title>Folie 1</dc:title>
</cp:coreProperties>
</file>